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596-EDE5-4484-A743-E5E6F682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B0A-7CBB-4CA5-893F-475D2BBB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9E6-D678-4440-8A7B-E1FA3382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1C5-6E30-4050-B386-51270373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8C55-274A-476C-9C79-56712D0C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CE51-E85F-489A-9864-50BA55C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EB11-5043-4396-8355-F6D5A746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D59A-CB39-4CB5-A9E9-D957638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C409-F539-4C9B-A330-1D9CD974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41FB-DFD8-48FF-BE51-00ED444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ABD1-1A6C-4507-B222-7C01E80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983-386C-410B-9462-045BB906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1AAF-F009-4B1B-9474-2BA7C9F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DC6C-6250-42C0-813E-9911105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FAF-74B4-41FA-952D-75EB7A6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F24A-0C70-46E2-B3F4-9CC68ED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28ED-439D-46D8-BF5C-E283892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87E-7735-4772-B25E-77E297C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81E-86C5-4DE3-AD8A-4E4F357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31D-DED5-433D-A9DC-1B19DE1A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505-DEF3-4253-965F-E9EDBDC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B0F-C32E-459B-916F-B135DC5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E5A-0026-4D45-9240-68FC41F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A72-5F79-4C7E-9441-870A269A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0516-339B-4067-8BB1-3C1772731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6C73-6557-4C84-AED3-7F680CEB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Castellar"/>
              <a:buChar char="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Castellar"/>
              <a:buChar char="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Castellar"/>
              <a:buChar char="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ff"/>
                </a:solidFill>
                <a:latin typeface="Castellar"/>
              </a:rPr>
              <a:t>Ma Mansion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572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6019560" cy="40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jardin es bo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Balcó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lcón es arri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33920" y="2895480"/>
            <a:ext cx="464796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cina es muy sofistic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Ban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no es muy gran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3772080" cy="26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medor es lujos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y bo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002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ma es alto arri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048120" cy="287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a es todos blan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atio es muy b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88620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La Charc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 charca es transpare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4572000" cy="286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garaje es muy gran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648320" cy="309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1:31Z</dcterms:created>
  <dc:creator>carusojul</dc:creator>
  <dc:description/>
  <dc:language>en-US</dc:language>
  <cp:lastModifiedBy>carusojul</cp:lastModifiedBy>
  <dcterms:modified xsi:type="dcterms:W3CDTF">2013-04-11T18:05:44Z</dcterms:modified>
  <cp:revision>5</cp:revision>
  <dc:subject/>
  <dc:title>La Mágico Carpa</dc:title>
</cp:coreProperties>
</file>